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738F-B94B-4C0E-B686-B968D29CE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B2DB-CE0B-4B9E-BB79-72CA2E69E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6D64-5D9A-4BEA-8E72-15AF40807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9ECD-F0AA-48B0-ABCC-07EC5E904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B8005-8A9B-48B4-A11A-74055A58F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07EC8-0357-430F-BBB7-FDE73D9E7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7AE7D-CFE1-43A6-9298-6EDBF9A6D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B806D-EAFB-4618-AABF-155C8E89C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24153-8E90-4481-AD25-6254DC621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420F9-A39C-45E3-99ED-44757FD42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61F93-897D-4DFF-BE97-E353F0F7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5868-D7C8-4AAA-89EA-20ACC6D30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10F17-B8B4-413A-8C88-7805B6F6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75EC7-86C8-466F-AA01-3AFFD326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A54FD-A446-46B2-8005-DC4A8B842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5F0A5-E324-4CDC-A7EF-36DED53E4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1E7B8-B5DF-437F-AAAA-C9016928E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D881A-8CF6-40F7-9E53-D77552F52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C5DF7-D4C3-4FDD-B575-1FC41B1F2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260C1-ABE2-4B34-8627-82C21F9FE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7D52D-F1A2-4A52-86C9-A16FA5DBE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6A906-F8CE-4AC1-9976-C97A75967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6404-62FE-4214-A598-9CAD61E05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68C79-5FC0-49FF-B368-24C78F54A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D8A6B-73D3-4D3A-8814-0CBAABCE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275D9-7BD8-4C5C-80DB-C520472C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FF6F9-D708-4F31-AFC3-4F19CF20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D3088-12A1-4624-88CD-3820781FC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69E89-FB36-4805-BE34-ED24D671A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A0954-75AF-4982-8196-80535E2EF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5DABD-89E7-4912-B269-43E8C5A2B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1166D-21E3-4D9E-9984-24972B893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B000A-15DF-459F-856D-E55CAC075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F6AB-1B23-407E-9621-885268EFB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64FFF-2666-47D2-B890-D018D300B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61401-EA9D-4D32-9D77-E590A2A94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A27C2-BEE0-4894-ABE6-EF181233C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A66E5-4396-4DCC-917E-6EB05642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553E6-3250-4A3B-9F52-7A12C275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B7B76-5CCA-413B-ADBD-E2C62057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135A2-2AAB-4CB1-95C5-19D2249FC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901E7-1407-43C6-ADC6-ED432E441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0F7A9-72E6-4B1E-8461-BD208A7DB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9FC0A-60CB-44F7-BA3B-D42369B75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F344-4D92-432B-B100-EC7C4DC1A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BB544-D3FB-493C-AD95-867994C7E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31A13-65B1-454E-8123-DDE1AFB20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94988-4389-456F-BFF4-D667F48DB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8C7B5-15D5-471A-AA57-E467DB119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B315F-ACA6-4A79-8FBE-CE5F3F206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4F3BD-3461-4397-8C21-1E4EA08B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193D8-B7B9-4DC1-93B5-E8F298EB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6F392-DF79-4810-BBE7-417CA021A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CB9A4-E9E3-4A1C-B87A-4A4D44E63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5A497-A898-4975-9512-31430C68E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6DB8-06F4-4C65-A07E-D50532460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54762-A144-46ED-989A-768F235EF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FDF3B-A41B-43A4-A2C9-83C072A87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F1BE3-8417-4678-8102-DEE782663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C3EF8-B460-473F-BA97-C79A54526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1F1A5-7881-4940-95EB-7ADAFC619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D2885-4C57-4EA6-95AD-9E28F6D9D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E7F15-4F25-4FEA-B08E-4361F878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8DE63-F1E7-457B-BE14-E90FAFD9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4A2DF-D7A6-4A9E-9229-073455C6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8BB70-4384-4D44-B626-3BEF5CC9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DBDB-7BAB-4CCF-942C-A217EB1B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620F53-3A6E-4688-BEE5-28674C57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52F49-F1E3-4E2A-B797-F65C08170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02EB0B-BD5E-4946-9175-8E3D91E88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EF035-46BE-462D-85C3-AE396F254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0430C-156B-4A2A-A4B1-16D5ECE3C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D2559-C68B-4D0A-9E5F-3AF891285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AB00E1-9FAC-4017-92EC-696E4541F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E5ED6F-8564-46D4-8D90-A4D568873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3FECC-3871-49CB-9A5D-A4B71FDE5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C1CA7-3A8C-4BF3-BDFE-74A1FE5D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70BF-2BDE-4FC6-8F9D-A5C2AE62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77EB3-0D34-4082-9D41-1AF98534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07010-C97B-4C5E-8211-BF21C51B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5204B-A061-4DEF-AC61-CD7D4AE02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F0168F-729E-4C18-917F-3C2B4D5F2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D2A64-C497-4C3F-A2C5-C756FCF5B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EAE8-AA61-4F5C-90AB-DDEEF8AD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饼形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椭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2" name="同心圆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同心圆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" name="矩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235D1-A8DD-4B3F-BAA6-BDD90A041CEB}" type="slidenum"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矩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饼形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椭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50" name="同心圆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同心圆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3" name="矩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矩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55" name="椭圆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椭圆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8" name="椭圆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FE7BA-E05B-491F-AE53-39F02CB7E02F}" type="slidenum"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" name="矩形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102" name="椭圆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椭圆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105" name="椭圆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2FDE1-586A-43F8-887A-FEF258FFDE0C}" type="slidenum"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B4EE6-06C8-4FA6-B54A-9CDF76F8EED5}" type="slidenum"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矩形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矩形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BA3F9-FE9D-4009-88D2-EF0FEDE65950}" type="slidenum"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10E7-9460-4D0F-9E6A-8977E4E4852E}" type="slidenum"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矩形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矩形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275" name="流程图: 过程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6" name="流程图: 过程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8D699-E82D-47B7-BEE8-D2CC99BD6CF9}" type="slidenum"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14280" y="19285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00000"/>
                </a:solidFill>
                <a:latin typeface="华文琥珀"/>
                <a:ea typeface="华文琥珀"/>
              </a:rPr>
              <a:t>小学语文</a:t>
            </a:r>
            <a:br>
              <a:rPr sz="6000"/>
            </a:br>
            <a:r>
              <a:rPr b="0" lang="zh-CN" sz="6000" spc="-1" strike="noStrike">
                <a:solidFill>
                  <a:srgbClr val="c00000"/>
                </a:solidFill>
                <a:latin typeface="华文琥珀"/>
                <a:ea typeface="华文琥珀"/>
              </a:rPr>
              <a:t>课标、教材、学情</a:t>
            </a:r>
            <a:br>
              <a:rPr sz="6000"/>
            </a:br>
            <a:r>
              <a:rPr b="0" lang="zh-CN" sz="6000" spc="-1" strike="noStrike">
                <a:solidFill>
                  <a:srgbClr val="c00000"/>
                </a:solidFill>
                <a:latin typeface="华文琥珀"/>
                <a:ea typeface="华文琥珀"/>
              </a:rPr>
              <a:t>解     读</a:t>
            </a:r>
            <a:endParaRPr b="0" lang="en-US" sz="6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2000160" y="4785840"/>
            <a:ext cx="667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华文中宋"/>
              </a:rPr>
              <a:t>——</a:t>
            </a:r>
            <a:r>
              <a:rPr b="1" lang="zh-CN" sz="3200" spc="-1" strike="noStrike">
                <a:solidFill>
                  <a:srgbClr val="002060"/>
                </a:solidFill>
                <a:latin typeface="华文中宋"/>
              </a:rPr>
              <a:t>西航港小学五年级组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中宋"/>
              </a:rPr>
              <a:t>叶永珍  谢华琼  邓阳凯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43000" y="5713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7030a0"/>
                </a:solidFill>
                <a:latin typeface="Gill Sans MT"/>
              </a:rPr>
              <a:t>第三学段（五、六年级）</a:t>
            </a:r>
            <a:r>
              <a:rPr b="0" lang="zh-CN" sz="4300" spc="-1" strike="noStrike">
                <a:solidFill>
                  <a:srgbClr val="7030a0"/>
                </a:solidFill>
                <a:latin typeface="Gill Sans MT"/>
              </a:rPr>
              <a:t>：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000080" y="1428480"/>
            <a:ext cx="7283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．有较强的独立识字能力。累计认识常用汉字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3000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个左右，其中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2500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个左右会写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．硬笔书写楷书，行款整齐，有一定的速度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3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．能用毛笔书写楷书，在书写中体会汉字的美感。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8447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7030a0"/>
                </a:solidFill>
                <a:latin typeface="Gill Sans MT"/>
              </a:rPr>
              <a:t>关键词：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856800" y="761760"/>
            <a:ext cx="82868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．</a:t>
            </a:r>
            <a:r>
              <a:rPr b="0" lang="zh-CN" sz="2700" spc="-1" strike="noStrike">
                <a:solidFill>
                  <a:srgbClr val="ff0000"/>
                </a:solidFill>
                <a:latin typeface="Gill Sans MT"/>
              </a:rPr>
              <a:t>数量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：</a:t>
            </a:r>
            <a:r>
              <a:rPr b="0" lang="zh-CN" sz="2700" spc="-1" strike="noStrike">
                <a:solidFill>
                  <a:srgbClr val="002060"/>
                </a:solidFill>
                <a:latin typeface="Gill Sans MT"/>
              </a:rPr>
              <a:t>六年总数</a:t>
            </a:r>
            <a:r>
              <a:rPr b="0" lang="en-US" sz="2700" spc="-1" strike="noStrike">
                <a:solidFill>
                  <a:srgbClr val="002060"/>
                </a:solidFill>
                <a:latin typeface="Gill Sans MT"/>
              </a:rPr>
              <a:t>——</a:t>
            </a:r>
            <a:r>
              <a:rPr b="0" lang="en-US" sz="2700" spc="-1" strike="noStrike">
                <a:solidFill>
                  <a:srgbClr val="002060"/>
                </a:solidFill>
                <a:latin typeface="Gill Sans MT"/>
              </a:rPr>
              <a:t>3000</a:t>
            </a:r>
            <a:r>
              <a:rPr b="0" lang="zh-CN" sz="2700" spc="-1" strike="noStrike">
                <a:solidFill>
                  <a:srgbClr val="002060"/>
                </a:solidFill>
                <a:latin typeface="Gill Sans MT"/>
              </a:rPr>
              <a:t>个左右常用汉字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．</a:t>
            </a:r>
            <a:r>
              <a:rPr b="0" lang="zh-CN" sz="2700" spc="-1" strike="noStrike">
                <a:solidFill>
                  <a:srgbClr val="ff0000"/>
                </a:solidFill>
                <a:latin typeface="Gill Sans MT"/>
              </a:rPr>
              <a:t>质量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：</a:t>
            </a:r>
            <a:r>
              <a:rPr b="0" lang="zh-CN" sz="2700" spc="-1" strike="noStrike">
                <a:solidFill>
                  <a:srgbClr val="002060"/>
                </a:solidFill>
                <a:latin typeface="Gill Sans MT"/>
              </a:rPr>
              <a:t>提出“认识”和“学会”两种目标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．</a:t>
            </a:r>
            <a:r>
              <a:rPr b="0" lang="zh-CN" sz="2700" spc="-1" strike="noStrike">
                <a:solidFill>
                  <a:srgbClr val="ff0000"/>
                </a:solidFill>
                <a:latin typeface="Gill Sans MT"/>
              </a:rPr>
              <a:t>兴趣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：</a:t>
            </a:r>
            <a:r>
              <a:rPr b="0" lang="zh-CN" sz="2700" spc="-1" strike="noStrike">
                <a:solidFill>
                  <a:srgbClr val="002060"/>
                </a:solidFill>
                <a:latin typeface="Gill Sans MT"/>
              </a:rPr>
              <a:t>对学习汉字有浓厚的兴趣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4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．</a:t>
            </a:r>
            <a:r>
              <a:rPr b="0" lang="zh-CN" sz="2700" spc="-1" strike="noStrike">
                <a:solidFill>
                  <a:srgbClr val="ff0000"/>
                </a:solidFill>
                <a:latin typeface="Gill Sans MT"/>
              </a:rPr>
              <a:t>习惯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：</a:t>
            </a:r>
            <a:r>
              <a:rPr b="0" lang="zh-CN" sz="2700" spc="-1" strike="noStrike">
                <a:solidFill>
                  <a:srgbClr val="002060"/>
                </a:solidFill>
                <a:latin typeface="Gill Sans MT"/>
              </a:rPr>
              <a:t>养成主动识字的习惯。养成正确的书写姿势和良好的书写习惯，书写规范、端正、整洁。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5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．</a:t>
            </a:r>
            <a:r>
              <a:rPr b="0" lang="zh-CN" sz="2700" spc="-1" strike="noStrike">
                <a:solidFill>
                  <a:srgbClr val="ff0000"/>
                </a:solidFill>
                <a:latin typeface="Gill Sans MT"/>
              </a:rPr>
              <a:t>能力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：</a:t>
            </a:r>
            <a:r>
              <a:rPr b="0" lang="zh-CN" sz="2700" spc="-1" strike="noStrike">
                <a:solidFill>
                  <a:srgbClr val="002060"/>
                </a:solidFill>
                <a:latin typeface="Gill Sans MT"/>
              </a:rPr>
              <a:t>“能借助汉语拼音认读汉字”，“掌握汉字的基本笔画和常用的偏旁部首”，“能用音序和部首检字法查字典”等。有较强的独立识字能力。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6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．</a:t>
            </a:r>
            <a:r>
              <a:rPr b="0" lang="zh-CN" sz="2700" spc="-1" strike="noStrike">
                <a:solidFill>
                  <a:srgbClr val="ff0000"/>
                </a:solidFill>
                <a:latin typeface="Gill Sans MT"/>
              </a:rPr>
              <a:t>方法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：</a:t>
            </a:r>
            <a:r>
              <a:rPr b="0" lang="zh-CN" sz="2700" spc="-1" strike="noStrike">
                <a:solidFill>
                  <a:srgbClr val="002060"/>
                </a:solidFill>
                <a:latin typeface="Gill Sans MT"/>
              </a:rPr>
              <a:t>教法与学法（如看图识字、汉语拼音识字，归类识字、比较法识字、利用形声字的特点识字等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）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7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．</a:t>
            </a:r>
            <a:r>
              <a:rPr b="0" lang="zh-CN" sz="2700" spc="-1" strike="noStrike">
                <a:solidFill>
                  <a:srgbClr val="ff0000"/>
                </a:solidFill>
                <a:latin typeface="Gill Sans MT"/>
              </a:rPr>
              <a:t>情感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：</a:t>
            </a:r>
            <a:r>
              <a:rPr b="0" lang="zh-CN" sz="2700" spc="-1" strike="noStrike">
                <a:solidFill>
                  <a:srgbClr val="002060"/>
                </a:solidFill>
                <a:latin typeface="Gill Sans MT"/>
              </a:rPr>
              <a:t>喜欢学习汉字，有主动识字的愿望。初步感受汉字的形体美。在书写中体会汉字的美感。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7030a0"/>
                </a:solidFill>
                <a:latin typeface="Gill Sans MT"/>
              </a:rPr>
              <a:t>关于数量目标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928800" y="1500120"/>
            <a:ext cx="82152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Gill Sans MT"/>
              </a:rPr>
              <a:t>认识：</a:t>
            </a: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第一学段</a:t>
            </a:r>
            <a:r>
              <a:rPr b="0" lang="en-US" sz="4000" spc="-1" strike="noStrike">
                <a:solidFill>
                  <a:srgbClr val="002060"/>
                </a:solidFill>
                <a:latin typeface="Gill Sans MT"/>
              </a:rPr>
              <a:t>1600-1800</a:t>
            </a: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左右；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            </a:t>
            </a: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第二学段</a:t>
            </a:r>
            <a:r>
              <a:rPr b="0" lang="en-US" sz="4000" spc="-1" strike="noStrike">
                <a:solidFill>
                  <a:srgbClr val="002060"/>
                </a:solidFill>
                <a:latin typeface="Gill Sans MT"/>
              </a:rPr>
              <a:t>2500</a:t>
            </a: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左右；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            </a:t>
            </a: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第三学段</a:t>
            </a:r>
            <a:r>
              <a:rPr b="0" lang="en-US" sz="4000" spc="-1" strike="noStrike">
                <a:solidFill>
                  <a:srgbClr val="002060"/>
                </a:solidFill>
                <a:latin typeface="Gill Sans MT"/>
              </a:rPr>
              <a:t>3000</a:t>
            </a: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左右。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Gill Sans MT"/>
              </a:rPr>
              <a:t>学会：</a:t>
            </a: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第一学段</a:t>
            </a:r>
            <a:r>
              <a:rPr b="0" lang="en-US" sz="4000" spc="-1" strike="noStrike">
                <a:solidFill>
                  <a:srgbClr val="002060"/>
                </a:solidFill>
                <a:latin typeface="Gill Sans MT"/>
              </a:rPr>
              <a:t>800-1000</a:t>
            </a: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左右；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            </a:t>
            </a: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第二学段</a:t>
            </a:r>
            <a:r>
              <a:rPr b="0" lang="en-US" sz="4000" spc="-1" strike="noStrike">
                <a:solidFill>
                  <a:srgbClr val="002060"/>
                </a:solidFill>
                <a:latin typeface="Gill Sans MT"/>
              </a:rPr>
              <a:t>1800</a:t>
            </a: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左右；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            </a:t>
            </a: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第三学段</a:t>
            </a:r>
            <a:r>
              <a:rPr b="0" lang="en-US" sz="4000" spc="-1" strike="noStrike">
                <a:solidFill>
                  <a:srgbClr val="002060"/>
                </a:solidFill>
                <a:latin typeface="Gill Sans MT"/>
              </a:rPr>
              <a:t>2500</a:t>
            </a: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左右。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071720" y="1642680"/>
            <a:ext cx="792936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华文中宋"/>
              </a:rPr>
              <a:t>    “</a:t>
            </a:r>
            <a:r>
              <a:rPr b="0" lang="zh-CN" sz="3600" spc="-1" strike="noStrike">
                <a:solidFill>
                  <a:srgbClr val="002060"/>
                </a:solidFill>
                <a:latin typeface="华文中宋"/>
              </a:rPr>
              <a:t>认识”和“学会”要求不同：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华文中宋"/>
              </a:rPr>
              <a:t>1</a:t>
            </a:r>
            <a:r>
              <a:rPr b="0" lang="zh-CN" sz="3600" spc="-1" strike="noStrike">
                <a:solidFill>
                  <a:srgbClr val="002060"/>
                </a:solidFill>
                <a:latin typeface="华文中宋"/>
              </a:rPr>
              <a:t>、“会认的字”，只要求读准字音，不抄不默不考。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华文中宋"/>
              </a:rPr>
              <a:t>2</a:t>
            </a:r>
            <a:r>
              <a:rPr b="0" lang="zh-CN" sz="3600" spc="-1" strike="noStrike">
                <a:solidFill>
                  <a:srgbClr val="002060"/>
                </a:solidFill>
                <a:latin typeface="华文中宋"/>
              </a:rPr>
              <a:t>、“学会的字”，要求能读准字音，认清字形，了解字词在语言环境中的意思，并能正确地书写。”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eb80a"/>
                </a:solidFill>
                <a:latin typeface="华文中宋"/>
              </a:rPr>
              <a:t>          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</a:rPr>
              <a:t>认、写分流，多认少写”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1214280" y="609480"/>
            <a:ext cx="792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7030a0"/>
                </a:solidFill>
                <a:latin typeface="Times New Roman"/>
              </a:rPr>
              <a:t>关于质量目标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7030a0"/>
                </a:solidFill>
                <a:latin typeface="Gill Sans MT"/>
              </a:rPr>
              <a:t>各学段写字教学的侧重点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第一学段：养成正确的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写字姿势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和良好的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写字习惯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，书写规范、端正、整洁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第二学段：能使用硬笔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熟练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地书写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正楷字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，做到规范、端正、整洁，用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毛笔临摹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正楷字帖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第三学段：硬笔书写楷书，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行款整齐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，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有一定的速度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；用毛笔书写楷书，在书写中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体会汉字的优美</a:t>
            </a:r>
            <a:r>
              <a:rPr b="0" lang="zh-CN" sz="3200" spc="-1" strike="noStrike">
                <a:solidFill>
                  <a:srgbClr val="feb80a"/>
                </a:solidFill>
                <a:latin typeface="Gill Sans MT"/>
              </a:rPr>
              <a:t> 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7030a0"/>
                </a:solidFill>
                <a:latin typeface="宋体"/>
              </a:rPr>
              <a:t>学情分析：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571320" y="1599840"/>
            <a:ext cx="8358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宋体"/>
              </a:rPr>
              <a:t>     </a:t>
            </a: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通过前期的学习，学生已累计认识汉字</a:t>
            </a:r>
            <a:r>
              <a:rPr b="0" lang="en-US" sz="3600" spc="-1" strike="noStrike">
                <a:solidFill>
                  <a:srgbClr val="002060"/>
                </a:solidFill>
                <a:latin typeface="宋体"/>
              </a:rPr>
              <a:t>2650</a:t>
            </a: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个左右，学会</a:t>
            </a:r>
            <a:r>
              <a:rPr b="0" lang="en-US" sz="3600" spc="-1" strike="noStrike">
                <a:solidFill>
                  <a:srgbClr val="002060"/>
                </a:solidFill>
                <a:latin typeface="宋体"/>
              </a:rPr>
              <a:t>2050</a:t>
            </a: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个左右。</a:t>
            </a:r>
            <a:br>
              <a:rPr sz="3600"/>
            </a:b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    对学习汉字有浓厚的兴趣，养成了主动识字的习惯</a:t>
            </a:r>
            <a:r>
              <a:rPr b="0" lang="en-US" sz="3600" spc="-1" strike="noStrike">
                <a:solidFill>
                  <a:srgbClr val="002060"/>
                </a:solidFill>
                <a:latin typeface="宋体"/>
              </a:rPr>
              <a:t>;</a:t>
            </a: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会使用字典、 词典，有初步的独立识字能力。能使用硬笔熟练地书写正楷字，做到规范、端正、整洁。能用毛笔临摹正楷字帖。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28800" y="-360"/>
            <a:ext cx="8215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030a0"/>
                </a:solidFill>
                <a:latin typeface="Gill Sans MT"/>
              </a:rPr>
              <a:t>五年级识字与写字的主要任务</a:t>
            </a:r>
            <a:r>
              <a:rPr b="1" lang="zh-CN" sz="3600" spc="-1" strike="noStrike">
                <a:solidFill>
                  <a:srgbClr val="c00000"/>
                </a:solidFill>
                <a:latin typeface="Gill Sans MT"/>
              </a:rPr>
              <a:t>（教什么）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928800" y="1295280"/>
            <a:ext cx="82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、学生认字累计约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2800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个，写字约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2300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个；五年级下册要求学生认字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150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个，写字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230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个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、独立识字学词，要继续坚持写好摘录笔记，还要向课外延伸积累字词；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3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、提高学生预防和纠正错别字的自觉性，培养学生与错别字做斗争的好习惯，习作错别字率不能大于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1%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， ；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4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、能用硬笔和毛笔书写楷书和对名家书法作品的临摹。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81439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030a0"/>
                </a:solidFill>
                <a:latin typeface="黑体"/>
                <a:ea typeface="黑体"/>
              </a:rPr>
              <a:t>五年级识字与写字教学实施建议</a:t>
            </a:r>
            <a:br>
              <a:rPr sz="3600"/>
            </a:br>
            <a:r>
              <a:rPr b="1" lang="zh-CN" sz="3600" spc="-1" strike="noStrike">
                <a:solidFill>
                  <a:srgbClr val="c00000"/>
                </a:solidFill>
                <a:latin typeface="黑体"/>
                <a:ea typeface="黑体"/>
              </a:rPr>
              <a:t>（怎么教）</a:t>
            </a:r>
            <a:br>
              <a:rPr sz="1800"/>
            </a:br>
            <a:r>
              <a:rPr b="1" lang="zh-CN" sz="3600" spc="-1" strike="noStrike">
                <a:solidFill>
                  <a:srgbClr val="0070c0"/>
                </a:solidFill>
                <a:latin typeface="宋体"/>
              </a:rPr>
              <a:t>（一）学会放手，培养学生独立识字的能力。</a:t>
            </a:r>
            <a:br>
              <a:rPr sz="3600"/>
            </a:br>
            <a:r>
              <a:rPr b="0" lang="zh-CN" sz="3600" spc="-1" strike="noStrike">
                <a:solidFill>
                  <a:srgbClr val="feb80a"/>
                </a:solidFill>
                <a:latin typeface="宋体"/>
              </a:rPr>
              <a:t>    </a:t>
            </a:r>
            <a:r>
              <a:rPr b="0" lang="zh-CN" sz="4000" spc="-1" strike="noStrike">
                <a:solidFill>
                  <a:srgbClr val="002060"/>
                </a:solidFill>
                <a:latin typeface="宋体"/>
              </a:rPr>
              <a:t>在阅读教学过程中完成识字任务，加强对孩子的预习检查，保证自学的质量。要求学生带字典、词典进课堂，遇到问题，自己独立解决。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28800" y="214200"/>
            <a:ext cx="8215200" cy="62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2060"/>
                </a:solidFill>
                <a:latin typeface="宋体"/>
              </a:rPr>
              <a:t>多种方法理解词语：</a:t>
            </a:r>
            <a:br>
              <a:rPr sz="4000"/>
            </a:br>
            <a:br>
              <a:rPr sz="4000"/>
            </a:b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（</a:t>
            </a:r>
            <a:r>
              <a:rPr b="0" lang="en-US" sz="3600" spc="-1" strike="noStrike">
                <a:solidFill>
                  <a:srgbClr val="002060"/>
                </a:solidFill>
                <a:latin typeface="宋体"/>
              </a:rPr>
              <a:t>1</a:t>
            </a: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）在语境中学习、理解词语。</a:t>
            </a:r>
            <a:br>
              <a:rPr sz="3600"/>
            </a:b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（</a:t>
            </a:r>
            <a:r>
              <a:rPr b="0" lang="en-US" sz="3600" spc="-1" strike="noStrike">
                <a:solidFill>
                  <a:srgbClr val="002060"/>
                </a:solidFill>
                <a:latin typeface="宋体"/>
              </a:rPr>
              <a:t>2</a:t>
            </a: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）联系生活经验进行联想和想象。（</a:t>
            </a:r>
            <a:r>
              <a:rPr b="0" lang="en-US" sz="3600" spc="-1" strike="noStrike">
                <a:solidFill>
                  <a:srgbClr val="002060"/>
                </a:solidFill>
                <a:latin typeface="宋体"/>
              </a:rPr>
              <a:t>3</a:t>
            </a: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）根据汉字表义的特点，推知词义。（</a:t>
            </a:r>
            <a:r>
              <a:rPr b="0" lang="en-US" sz="3600" spc="-1" strike="noStrike">
                <a:solidFill>
                  <a:srgbClr val="002060"/>
                </a:solidFill>
                <a:latin typeface="宋体"/>
              </a:rPr>
              <a:t>4</a:t>
            </a: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）运用工具书理解词语。</a:t>
            </a:r>
            <a:br>
              <a:rPr sz="3600"/>
            </a:b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（</a:t>
            </a:r>
            <a:r>
              <a:rPr b="0" lang="en-US" sz="3600" spc="-1" strike="noStrike">
                <a:solidFill>
                  <a:srgbClr val="002060"/>
                </a:solidFill>
                <a:latin typeface="宋体"/>
              </a:rPr>
              <a:t>5</a:t>
            </a: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）向他人请教。</a:t>
            </a:r>
            <a:br>
              <a:rPr sz="3600"/>
            </a:b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    检测方式：</a:t>
            </a:r>
            <a:r>
              <a:rPr b="0" lang="zh-CN" sz="4000" spc="-1" strike="noStrike">
                <a:solidFill>
                  <a:srgbClr val="ff0000"/>
                </a:solidFill>
                <a:latin typeface="宋体"/>
              </a:rPr>
              <a:t>听写、测试、竞赛等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1000080" y="0"/>
            <a:ext cx="81439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黑体"/>
                <a:ea typeface="黑体"/>
              </a:rPr>
              <a:t>(</a:t>
            </a:r>
            <a:r>
              <a:rPr b="0" lang="zh-CN" sz="3600" spc="-1" strike="noStrike">
                <a:solidFill>
                  <a:srgbClr val="0070c0"/>
                </a:solidFill>
                <a:latin typeface="黑体"/>
                <a:ea typeface="黑体"/>
              </a:rPr>
              <a:t>二）</a:t>
            </a:r>
            <a:r>
              <a:rPr b="1" lang="zh-CN" sz="3600" spc="-1" strike="noStrike">
                <a:solidFill>
                  <a:srgbClr val="0070c0"/>
                </a:solidFill>
                <a:latin typeface="宋体"/>
              </a:rPr>
              <a:t>继续注重语言积累</a:t>
            </a:r>
            <a:r>
              <a:rPr b="0" lang="zh-CN" sz="3600" spc="-1" strike="noStrike">
                <a:solidFill>
                  <a:srgbClr val="0070c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2060"/>
                </a:solidFill>
                <a:latin typeface="宋体"/>
              </a:rPr>
              <a:t>写摘录笔记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。教材“语文天地”中“日积月累”第</a:t>
            </a:r>
            <a:r>
              <a:rPr b="0" lang="en-US" sz="3200" spc="-1" strike="noStrike">
                <a:solidFill>
                  <a:srgbClr val="00206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题列出的是课文的重点词语，应在阅读时逐步理解体会；下面加线的是要求会写的词语，其余的要求会认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、“日积月累”里还有向</a:t>
            </a:r>
            <a:r>
              <a:rPr b="0" lang="zh-CN" sz="3200" spc="-1" strike="noStrike">
                <a:solidFill>
                  <a:srgbClr val="c00000"/>
                </a:solidFill>
                <a:latin typeface="宋体"/>
              </a:rPr>
              <a:t>课外延伸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的积累词语的练习。本册教材要积累：“龙”、“角度”、“火”、“光”等成语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2060"/>
                </a:solidFill>
                <a:latin typeface="宋体"/>
              </a:rPr>
              <a:t>关注“金钥匙”。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五年级下册</a:t>
            </a:r>
            <a:r>
              <a:rPr b="0" lang="en-US" sz="3200" spc="-1" strike="noStrike">
                <a:solidFill>
                  <a:srgbClr val="002060"/>
                </a:solidFill>
                <a:latin typeface="宋体"/>
              </a:rPr>
              <a:t>《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叶公好龙</a:t>
            </a:r>
            <a:r>
              <a:rPr b="0" lang="en-US" sz="3200" spc="-1" strike="noStrike">
                <a:solidFill>
                  <a:srgbClr val="002060"/>
                </a:solidFill>
                <a:latin typeface="宋体"/>
              </a:rPr>
              <a:t>》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一课的“金钥匙”指出有些字古今字义大不同：比如“走”在古代是“跑”的意思</a:t>
            </a:r>
            <a:r>
              <a:rPr b="0" lang="en-US" sz="3200" spc="-1" strike="noStrike">
                <a:solidFill>
                  <a:srgbClr val="002060"/>
                </a:solidFill>
                <a:latin typeface="宋体"/>
              </a:rPr>
              <a:t>,“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写”在古代是“画”的意思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、在课外阅读中勾画积累好词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564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琥珀"/>
                <a:ea typeface="华文琥珀"/>
              </a:rPr>
              <a:t>课标前言解读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琥珀"/>
                <a:ea typeface="华文琥珀"/>
              </a:rPr>
              <a:t>识字与写字解读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琥珀"/>
                <a:ea typeface="华文琥珀"/>
              </a:rPr>
              <a:t>口语交际解读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81439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70c0"/>
                </a:solidFill>
                <a:latin typeface="黑体"/>
                <a:ea typeface="黑体"/>
              </a:rPr>
              <a:t>（三）</a:t>
            </a:r>
            <a:r>
              <a:rPr b="1" lang="zh-CN" sz="3900" spc="-1" strike="noStrike">
                <a:solidFill>
                  <a:srgbClr val="0070c0"/>
                </a:solidFill>
                <a:latin typeface="宋体"/>
              </a:rPr>
              <a:t>继续加强写字指导，注重培养学生认认真真地写字，养成良好的写字习惯。</a:t>
            </a:r>
            <a:br>
              <a:rPr sz="3900"/>
            </a:br>
            <a:r>
              <a:rPr b="0" lang="zh-CN" sz="3600" spc="-1" strike="noStrike">
                <a:solidFill>
                  <a:srgbClr val="feb80a"/>
                </a:solidFill>
                <a:latin typeface="宋体"/>
              </a:rPr>
              <a:t>  </a:t>
            </a:r>
            <a:r>
              <a:rPr b="0" lang="en-US" sz="3600" spc="-1" strike="noStrike">
                <a:solidFill>
                  <a:srgbClr val="002060"/>
                </a:solidFill>
                <a:latin typeface="宋体"/>
              </a:rPr>
              <a:t>1</a:t>
            </a: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、课课有指导练习。（书空、在桌子上写、本子上写等）</a:t>
            </a:r>
            <a:br>
              <a:rPr sz="3600"/>
            </a:b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  </a:t>
            </a:r>
            <a:r>
              <a:rPr b="0" lang="en-US" sz="3600" spc="-1" strike="noStrike">
                <a:solidFill>
                  <a:srgbClr val="002060"/>
                </a:solidFill>
                <a:latin typeface="宋体"/>
              </a:rPr>
              <a:t>2</a:t>
            </a: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、作业写字提要求：书写规范、端正、整洁。</a:t>
            </a:r>
            <a:br>
              <a:rPr sz="3600"/>
            </a:b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  </a:t>
            </a:r>
            <a:r>
              <a:rPr b="0" lang="en-US" sz="3600" spc="-1" strike="noStrike">
                <a:solidFill>
                  <a:srgbClr val="002060"/>
                </a:solidFill>
                <a:latin typeface="宋体"/>
              </a:rPr>
              <a:t>3</a:t>
            </a: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、评价：有评分等级，有长效奖励机制。 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“增强书写意识” “提笔就是练字时”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1000080" y="0"/>
            <a:ext cx="81439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Gill Sans MT"/>
              </a:rPr>
              <a:t>（四）</a:t>
            </a:r>
            <a:r>
              <a:rPr b="1" lang="zh-CN" sz="3200" spc="-1" strike="noStrike">
                <a:solidFill>
                  <a:srgbClr val="0070c0"/>
                </a:solidFill>
                <a:latin typeface="宋体"/>
              </a:rPr>
              <a:t>继续关注学生的毛笔书写，</a:t>
            </a:r>
            <a:r>
              <a:rPr b="1" lang="zh-CN" sz="3200" spc="-1" strike="noStrike">
                <a:solidFill>
                  <a:srgbClr val="0070c0"/>
                </a:solidFill>
                <a:latin typeface="Gill Sans MT"/>
              </a:rPr>
              <a:t>在书写中体会</a:t>
            </a: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汉字的优美 </a:t>
            </a:r>
            <a:r>
              <a:rPr b="1" lang="zh-CN" sz="3200" spc="-1" strike="noStrike">
                <a:solidFill>
                  <a:srgbClr val="0070c0"/>
                </a:solidFill>
                <a:latin typeface="Gill Sans MT"/>
              </a:rPr>
              <a:t>，培养学生的</a:t>
            </a: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审美</a:t>
            </a:r>
            <a:r>
              <a:rPr b="1" lang="zh-CN" sz="3200" spc="-1" strike="noStrike">
                <a:solidFill>
                  <a:srgbClr val="0070c0"/>
                </a:solidFill>
                <a:latin typeface="Gill Sans MT"/>
              </a:rPr>
              <a:t>素养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     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五年级下册教材在第一单元展示了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龙”字的</a:t>
            </a:r>
            <a:r>
              <a:rPr b="0" lang="en-US" sz="3200" spc="-1" strike="noStrike">
                <a:solidFill>
                  <a:srgbClr val="002060"/>
                </a:solidFill>
                <a:latin typeface="宋体"/>
              </a:rPr>
              <a:t>8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种写法让学生欣赏、感受中华文字及书法艺术的魅力。</a:t>
            </a:r>
            <a:br>
              <a:rPr sz="3200"/>
            </a:b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    教师可组织一些生动有趣的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书法欣赏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活动或交流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名人写字小故事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或开展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班级书法赛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，使学生具有初步书法欣赏能力，提高学生的审美素养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80722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7030a0"/>
                </a:solidFill>
                <a:latin typeface="Gill Sans MT"/>
              </a:rPr>
              <a:t>如何预防和纠正错别字</a:t>
            </a:r>
            <a:r>
              <a:rPr b="0" lang="zh-CN" sz="4300" spc="-1" strike="noStrike">
                <a:solidFill>
                  <a:srgbClr val="7030a0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071360" y="1643040"/>
            <a:ext cx="80722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Gill Sans MT"/>
              </a:rPr>
              <a:t>一、错别字的类型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（一）错字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、笔画错误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2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、形近混淆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（二）别字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Gill Sans MT"/>
              </a:rPr>
              <a:t>二、错别字产生的原因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2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8" dur="20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1" dur="20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20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7" dur="20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0" dur="2000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0070c0"/>
                </a:solidFill>
                <a:latin typeface="Gill Sans MT"/>
              </a:rPr>
              <a:t>三、教学对策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000080" y="990720"/>
            <a:ext cx="81439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（一）教学前要有预见性。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      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例如：五年级下册第三单元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《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古诗二首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》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中“缘”字笔顺较为繁琐，学生容易把右上部分写错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     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教师教学时使学生从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一开始就意识到哪些地方容易写错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，在写字的时候就会格外注意，就可以降低错误率。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（二）利用汉字规律联想识字。   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     </a:t>
            </a: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、比较字形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 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如：“放”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——“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游”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        “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东”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——“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练” </a:t>
            </a:r>
            <a:r>
              <a:rPr b="0" lang="zh-CN" sz="3200" spc="-1" strike="noStrike">
                <a:solidFill>
                  <a:srgbClr val="feb80a"/>
                </a:solidFill>
                <a:latin typeface="Gill Sans MT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      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多观察、多比较、多分析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8" dur="500"/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1000080" y="0"/>
            <a:ext cx="81439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1" lang="zh-CN" sz="4000" spc="-1" strike="noStrike">
                <a:solidFill>
                  <a:srgbClr val="002060"/>
                </a:solidFill>
                <a:latin typeface="Gill Sans MT"/>
              </a:rPr>
              <a:t>、了解字义。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      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如：“幕”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——“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暮”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     “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暮色”的“暮”是傍晚，“暮色”是傍晚昏暗的天色。   “夜幕”的“幕”是覆盖在上面的帐篷，在夜间景物像被一幅大幕罩住一样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Gill Sans MT"/>
              </a:rPr>
              <a:t>3</a:t>
            </a:r>
            <a:r>
              <a:rPr b="1" lang="zh-CN" sz="4000" spc="-1" strike="noStrike">
                <a:solidFill>
                  <a:srgbClr val="002060"/>
                </a:solidFill>
                <a:latin typeface="Gill Sans MT"/>
              </a:rPr>
              <a:t>、形义结合。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      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如： “暇”的“日”字旁写成“目”字旁“暇”是指空闲的时候，与时间有关，所以应该是“日”字旁，这类字有：暮、晌、昔、昏等；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    “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目”字旁与眼睛有关，这类字有：睁、睹、瞧、眨等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1000080" y="0"/>
            <a:ext cx="81439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Gill Sans MT"/>
              </a:rPr>
              <a:t>（三）利用口诀、歌词帮助识记难字和轻易混淆的字。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       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如： “裕” 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——“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有衣穿，有饭吃，生活就富裕。”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       “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辛”与“幸”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——“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辛苦一点，幸福十分。”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eb80a"/>
                </a:solidFill>
                <a:latin typeface="Gill Sans MT"/>
              </a:rPr>
              <a:t>           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感兴趣，学得快，也记得牢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1000080" y="0"/>
            <a:ext cx="81439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Gill Sans MT"/>
              </a:rPr>
              <a:t>（四）建立“错别字医院”。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      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在专门的一本小册子里，写出自己写错、用错的字错在何处，找到病因后再订正、组词或解释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     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对记录下来的字，定期进行矫正训练，要求同学之间互测互评，每人只测自己错过的字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928800" y="0"/>
            <a:ext cx="8215200" cy="65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Gill Sans MT"/>
              </a:rPr>
              <a:t>（五）培养查字典的习惯。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eb80a"/>
                </a:solidFill>
                <a:latin typeface="Gill Sans MT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          </a:t>
            </a: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带字典或词典进课堂。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          </a:t>
            </a: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经常训练，经常检查，持之以恒。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1000080" y="0"/>
            <a:ext cx="81439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Gill Sans MT"/>
              </a:rPr>
              <a:t>（六）密切联系实际。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、课堂上无论交流什么，碰到易混淆的，哪怕是一个字、一个词也别光说不写；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、每次作业要及时检查，及时纠正作业中的错别字；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3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、带普遍性的错字词，要发动学生讨论如何解决问题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4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、习作（包括自读的笔记、日记）：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  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自检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—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互检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——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批阅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——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修改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928800" y="0"/>
            <a:ext cx="82152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Gill Sans MT"/>
              </a:rPr>
              <a:t>（七）实践体验，变被动为主动。</a:t>
            </a:r>
            <a:r>
              <a:rPr b="1" lang="zh-CN" sz="3200" spc="-1" strike="noStrike">
                <a:solidFill>
                  <a:srgbClr val="0070c0"/>
                </a:solidFill>
                <a:latin typeface="Gill Sans MT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eb80a"/>
                </a:solidFill>
                <a:latin typeface="Gill Sans MT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eb80a"/>
                </a:solidFill>
                <a:latin typeface="Gill Sans MT"/>
              </a:rPr>
              <a:t>  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、 开展多种活动： 同学之间互找错别字，在黑板上展示错别字，互批互改作文等，从中评选出“谁是改错大王”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、榜样法：对于不写错别字的同学进行表扬、奖励，从而来矫正小学生的错别字现象。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71480" y="2714400"/>
            <a:ext cx="542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00000"/>
                </a:solidFill>
                <a:latin typeface="华文琥珀"/>
                <a:ea typeface="华文琥珀"/>
              </a:rPr>
              <a:t>课标前言解读</a:t>
            </a:r>
            <a:endParaRPr b="0" lang="en-US" sz="60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285640" y="2714400"/>
            <a:ext cx="765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00000"/>
                </a:solidFill>
                <a:latin typeface="华文琥珀"/>
                <a:ea typeface="华文琥珀"/>
              </a:rPr>
              <a:t>口语交际解读</a:t>
            </a:r>
            <a:endParaRPr b="0" lang="en-US" sz="60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572314"/>
                </a:solidFill>
                <a:latin typeface="Gill Sans MT"/>
              </a:rPr>
              <a:t>一、课标对“口语交际”的要求：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   </a:t>
            </a: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总目标第九条：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具有日常口语交际的基本能力，学会倾听、表达与交流，初步学会运用口头语言文明地进行人际沟通和社会交往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9720" y="642600"/>
            <a:ext cx="77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572314"/>
                </a:solidFill>
                <a:latin typeface="Gill Sans MT"/>
              </a:rPr>
              <a:t>第一学段（</a:t>
            </a:r>
            <a:r>
              <a:rPr b="1" lang="en-US" sz="3900" spc="-1" strike="noStrike">
                <a:solidFill>
                  <a:srgbClr val="572314"/>
                </a:solidFill>
                <a:latin typeface="Gill Sans MT"/>
              </a:rPr>
              <a:t>1-2</a:t>
            </a:r>
            <a:r>
              <a:rPr b="1" lang="zh-CN" sz="3900" spc="-1" strike="noStrike">
                <a:solidFill>
                  <a:srgbClr val="572314"/>
                </a:solidFill>
                <a:latin typeface="Gill Sans MT"/>
              </a:rPr>
              <a:t>年级）</a:t>
            </a:r>
            <a:br>
              <a:rPr sz="3900"/>
            </a:b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928800" y="1285560"/>
            <a:ext cx="77580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1" lang="zh-CN" sz="2500" spc="-1" strike="noStrike">
                <a:solidFill>
                  <a:srgbClr val="002060"/>
                </a:solidFill>
                <a:latin typeface="Gill Sans MT"/>
              </a:rPr>
              <a:t>．学说普通话，逐步养成讲普通话的习惯。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1" lang="zh-CN" sz="2500" spc="-1" strike="noStrike">
                <a:solidFill>
                  <a:srgbClr val="002060"/>
                </a:solidFill>
                <a:latin typeface="Gill Sans MT"/>
              </a:rPr>
              <a:t>．能认真听别人讲话，努力了解讲话的主要内容。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60"/>
                </a:solidFill>
                <a:latin typeface="Gill Sans MT"/>
              </a:rPr>
              <a:t>3</a:t>
            </a:r>
            <a:r>
              <a:rPr b="1" lang="zh-CN" sz="2500" spc="-1" strike="noStrike">
                <a:solidFill>
                  <a:srgbClr val="002060"/>
                </a:solidFill>
                <a:latin typeface="Gill Sans MT"/>
              </a:rPr>
              <a:t>．听故事、看音像作品，能复述大意和自己感兴趣的情节。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2060"/>
                </a:solidFill>
                <a:latin typeface="Gill Sans MT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60"/>
                </a:solidFill>
                <a:latin typeface="Gill Sans MT"/>
              </a:rPr>
              <a:t>4</a:t>
            </a:r>
            <a:r>
              <a:rPr b="1" lang="zh-CN" sz="2500" spc="-1" strike="noStrike">
                <a:solidFill>
                  <a:srgbClr val="002060"/>
                </a:solidFill>
                <a:latin typeface="Gill Sans MT"/>
              </a:rPr>
              <a:t>．能较完整地讲述小故事，能简要讲述自己感兴趣的见闻。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2060"/>
                </a:solidFill>
                <a:latin typeface="Gill Sans MT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60"/>
                </a:solidFill>
                <a:latin typeface="Gill Sans MT"/>
              </a:rPr>
              <a:t>5</a:t>
            </a:r>
            <a:r>
              <a:rPr b="1" lang="zh-CN" sz="2500" spc="-1" strike="noStrike">
                <a:solidFill>
                  <a:srgbClr val="002060"/>
                </a:solidFill>
                <a:latin typeface="Gill Sans MT"/>
              </a:rPr>
              <a:t>．与别人交谈，态度自然大方，有礼貌。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2060"/>
                </a:solidFill>
                <a:latin typeface="Gill Sans MT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60"/>
                </a:solidFill>
                <a:latin typeface="Gill Sans MT"/>
              </a:rPr>
              <a:t>6</a:t>
            </a:r>
            <a:r>
              <a:rPr b="1" lang="zh-CN" sz="2500" spc="-1" strike="noStrike">
                <a:solidFill>
                  <a:srgbClr val="002060"/>
                </a:solidFill>
                <a:latin typeface="Gill Sans MT"/>
              </a:rPr>
              <a:t>．有表达的自信心。积极参加讨论，敢于发表自己的意见</a:t>
            </a:r>
            <a:r>
              <a:rPr b="0" lang="zh-CN" sz="2500" spc="-1" strike="noStrike">
                <a:solidFill>
                  <a:srgbClr val="002060"/>
                </a:solidFill>
                <a:latin typeface="Gill Sans MT"/>
              </a:rPr>
              <a:t>。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3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3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3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572314"/>
                </a:solidFill>
                <a:latin typeface="Gill Sans MT"/>
              </a:rPr>
              <a:t>第二学段（</a:t>
            </a:r>
            <a:r>
              <a:rPr b="1" lang="en-US" sz="3900" spc="-1" strike="noStrike">
                <a:solidFill>
                  <a:srgbClr val="572314"/>
                </a:solidFill>
                <a:latin typeface="Gill Sans MT"/>
              </a:rPr>
              <a:t>3-4</a:t>
            </a:r>
            <a:r>
              <a:rPr b="1" lang="zh-CN" sz="3900" spc="-1" strike="noStrike">
                <a:solidFill>
                  <a:srgbClr val="572314"/>
                </a:solidFill>
                <a:latin typeface="Gill Sans MT"/>
              </a:rPr>
              <a:t>年级）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．能用普通话交谈。学会认真倾听，能就不理解的地方向人请教，就不同的意见与人商讨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．听人说话能把握主要内容，并能简要转述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3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．能清楚明白地讲述见闻，说出自己的感受和想法。讲述故事力求具体生动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572314"/>
                </a:solidFill>
                <a:latin typeface="Gill Sans MT"/>
              </a:rPr>
              <a:t>第三学段（</a:t>
            </a: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5-6</a:t>
            </a:r>
            <a:r>
              <a:rPr b="1" lang="zh-CN" sz="4300" spc="-1" strike="noStrike">
                <a:solidFill>
                  <a:srgbClr val="572314"/>
                </a:solidFill>
                <a:latin typeface="Gill Sans MT"/>
              </a:rPr>
              <a:t>年级）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Gill Sans MT"/>
              </a:rPr>
              <a:t>1</a:t>
            </a:r>
            <a:r>
              <a:rPr b="1" lang="zh-CN" sz="2500" spc="-1" strike="noStrike">
                <a:solidFill>
                  <a:srgbClr val="c00000"/>
                </a:solidFill>
                <a:latin typeface="Gill Sans MT"/>
              </a:rPr>
              <a:t>．与人交流能尊重和理解对方。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Gill Sans MT"/>
              </a:rPr>
              <a:t>2</a:t>
            </a:r>
            <a:r>
              <a:rPr b="1" lang="zh-CN" sz="2500" spc="-1" strike="noStrike">
                <a:solidFill>
                  <a:srgbClr val="c00000"/>
                </a:solidFill>
                <a:latin typeface="Gill Sans MT"/>
              </a:rPr>
              <a:t>．乐于参与讨论，敢于发表自己的意见。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Gill Sans MT"/>
              </a:rPr>
              <a:t>3</a:t>
            </a:r>
            <a:r>
              <a:rPr b="1" lang="zh-CN" sz="2500" spc="-1" strike="noStrike">
                <a:solidFill>
                  <a:srgbClr val="c00000"/>
                </a:solidFill>
                <a:latin typeface="Gill Sans MT"/>
              </a:rPr>
              <a:t>．听人说话认真、耐心，能抓住要点，并能简要转述。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Gill Sans MT"/>
              </a:rPr>
              <a:t>4</a:t>
            </a:r>
            <a:r>
              <a:rPr b="1" lang="zh-CN" sz="2500" spc="-1" strike="noStrike">
                <a:solidFill>
                  <a:srgbClr val="c00000"/>
                </a:solidFill>
                <a:latin typeface="Gill Sans MT"/>
              </a:rPr>
              <a:t>．表达有条理，语气、语调适当。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Gill Sans MT"/>
              </a:rPr>
              <a:t>5</a:t>
            </a:r>
            <a:r>
              <a:rPr b="1" lang="zh-CN" sz="2500" spc="-1" strike="noStrike">
                <a:solidFill>
                  <a:srgbClr val="c00000"/>
                </a:solidFill>
                <a:latin typeface="Gill Sans MT"/>
              </a:rPr>
              <a:t>．能根据对象和场合，稍作准备，作简单的发言。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Gill Sans MT"/>
              </a:rPr>
              <a:t>6</a:t>
            </a:r>
            <a:r>
              <a:rPr b="1" lang="zh-CN" sz="2500" spc="-1" strike="noStrike">
                <a:solidFill>
                  <a:srgbClr val="c00000"/>
                </a:solidFill>
                <a:latin typeface="Gill Sans MT"/>
              </a:rPr>
              <a:t>．注意语言美，抵制不文明的语言。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99720" y="285840"/>
            <a:ext cx="7658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72314"/>
                </a:solidFill>
                <a:latin typeface="Gill Sans MT"/>
              </a:rPr>
              <a:t>“</a:t>
            </a:r>
            <a:r>
              <a:rPr b="0" lang="zh-CN" sz="2800" spc="-1" strike="noStrike">
                <a:solidFill>
                  <a:srgbClr val="572314"/>
                </a:solidFill>
                <a:latin typeface="Gill Sans MT"/>
              </a:rPr>
              <a:t>口语交际”关键知识点在各年段呈现的序列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1071720" y="1158840"/>
          <a:ext cx="7657920" cy="5430960"/>
        </p:xfrm>
        <a:graphic>
          <a:graphicData uri="http://schemas.openxmlformats.org/drawingml/2006/table">
            <a:tbl>
              <a:tblPr/>
              <a:tblGrid>
                <a:gridCol w="1395360"/>
                <a:gridCol w="6262560"/>
              </a:tblGrid>
              <a:tr h="105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2060"/>
                          </a:solidFill>
                          <a:latin typeface="Gill Sans MT"/>
                          <a:ea typeface="华文中宋"/>
                        </a:rPr>
                        <a:t>一年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2060"/>
                          </a:solidFill>
                          <a:latin typeface="Gill Sans MT"/>
                          <a:ea typeface="华文中宋"/>
                        </a:rPr>
                        <a:t>侧重于在听、讲故事中培养学生口语表达的自信心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2060"/>
                          </a:solidFill>
                          <a:latin typeface="Gill Sans MT"/>
                          <a:ea typeface="华文中宋"/>
                        </a:rPr>
                        <a:t>二年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2060"/>
                          </a:solidFill>
                          <a:latin typeface="Gill Sans MT"/>
                          <a:ea typeface="华文中宋"/>
                        </a:rPr>
                        <a:t>侧重于学习完整地讲述和句式表达训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2060"/>
                          </a:solidFill>
                          <a:latin typeface="Gill Sans MT"/>
                          <a:ea typeface="华文中宋"/>
                        </a:rPr>
                        <a:t>三年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2060"/>
                          </a:solidFill>
                          <a:latin typeface="Gill Sans MT"/>
                          <a:ea typeface="华文中宋"/>
                        </a:rPr>
                        <a:t>侧重于学习倾听并能清楚明白地讲述见闻或感受等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2060"/>
                          </a:solidFill>
                          <a:latin typeface="Gill Sans MT"/>
                          <a:ea typeface="华文中宋"/>
                        </a:rPr>
                        <a:t>四年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2060"/>
                          </a:solidFill>
                          <a:latin typeface="Gill Sans MT"/>
                          <a:ea typeface="华文中宋"/>
                        </a:rPr>
                        <a:t>侧重于学习倾听并能对不同意见进行商讨和辩论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00000"/>
                          </a:solidFill>
                          <a:latin typeface="Gill Sans MT"/>
                          <a:ea typeface="华文中宋"/>
                        </a:rPr>
                        <a:t>五年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2060"/>
                          </a:solidFill>
                          <a:latin typeface="Gill Sans MT"/>
                          <a:ea typeface="华文中宋"/>
                        </a:rPr>
                        <a:t>六年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2060"/>
                          </a:solidFill>
                          <a:latin typeface="Gill Sans MT"/>
                          <a:ea typeface="华文中宋"/>
                        </a:rPr>
                        <a:t>侧重于在语文综合实践活动中对口语表达的综合运用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1000080" y="0"/>
            <a:ext cx="81439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7030a0"/>
                </a:solidFill>
                <a:latin typeface="Gill Sans MT"/>
              </a:rPr>
              <a:t>畅所欲言：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第一单元：讲述与“龙”有关的故事；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（</a:t>
            </a:r>
            <a:r>
              <a:rPr b="1" lang="zh-CN" sz="2300" spc="-1" strike="noStrike">
                <a:solidFill>
                  <a:srgbClr val="c00000"/>
                </a:solidFill>
                <a:latin typeface="Gill Sans MT"/>
              </a:rPr>
              <a:t>讲述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第三单元：评议“从不同角度看问题”；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（</a:t>
            </a:r>
            <a:r>
              <a:rPr b="1" lang="zh-CN" sz="2300" spc="-1" strike="noStrike">
                <a:solidFill>
                  <a:srgbClr val="c00000"/>
                </a:solidFill>
                <a:latin typeface="Gill Sans MT"/>
              </a:rPr>
              <a:t>评议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第四单元：讨论“真诚表现在哪里”；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（</a:t>
            </a:r>
            <a:r>
              <a:rPr b="1" lang="zh-CN" sz="2300" spc="-1" strike="noStrike">
                <a:solidFill>
                  <a:srgbClr val="c00000"/>
                </a:solidFill>
                <a:latin typeface="Gill Sans MT"/>
              </a:rPr>
              <a:t>讨论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第五单元：说说我的心愿；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（</a:t>
            </a:r>
            <a:r>
              <a:rPr b="1" lang="zh-CN" sz="2300" spc="-1" strike="noStrike">
                <a:solidFill>
                  <a:srgbClr val="c00000"/>
                </a:solidFill>
                <a:latin typeface="Gill Sans MT"/>
              </a:rPr>
              <a:t>讲述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第七单元：评议</a:t>
            </a:r>
            <a:r>
              <a:rPr b="0" lang="en-US" sz="2300" spc="-1" strike="noStrike">
                <a:solidFill>
                  <a:srgbClr val="002060"/>
                </a:solidFill>
                <a:latin typeface="Gill Sans MT"/>
              </a:rPr>
              <a:t>《</a:t>
            </a: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嗟来之食</a:t>
            </a:r>
            <a:r>
              <a:rPr b="0" lang="en-US" sz="2300" spc="-1" strike="noStrike">
                <a:solidFill>
                  <a:srgbClr val="002060"/>
                </a:solidFill>
                <a:latin typeface="Gill Sans MT"/>
              </a:rPr>
              <a:t>》</a:t>
            </a: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这个故事；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（</a:t>
            </a:r>
            <a:r>
              <a:rPr b="1" lang="zh-CN" sz="2300" spc="-1" strike="noStrike">
                <a:solidFill>
                  <a:srgbClr val="c00000"/>
                </a:solidFill>
                <a:latin typeface="Gill Sans MT"/>
              </a:rPr>
              <a:t>评议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第八单元：讲述有关火的神话故事和说说各种灯；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（</a:t>
            </a:r>
            <a:r>
              <a:rPr b="1" lang="zh-CN" sz="2300" spc="-1" strike="noStrike">
                <a:solidFill>
                  <a:srgbClr val="c00000"/>
                </a:solidFill>
                <a:latin typeface="Gill Sans MT"/>
              </a:rPr>
              <a:t>讲述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第九单元：讲不怕鬼的故事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（</a:t>
            </a:r>
            <a:r>
              <a:rPr b="1" lang="zh-CN" sz="2300" spc="-1" strike="noStrike">
                <a:solidFill>
                  <a:srgbClr val="c00000"/>
                </a:solidFill>
                <a:latin typeface="Gill Sans MT"/>
              </a:rPr>
              <a:t>讲述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7030a0"/>
                </a:solidFill>
                <a:latin typeface="Gill Sans MT"/>
              </a:rPr>
              <a:t>初显身手：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第一单元：查阅资料，对搜集的信息进行整理，与同学进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2060"/>
                </a:solidFill>
                <a:latin typeface="Gill Sans MT"/>
              </a:rPr>
              <a:t>                 </a:t>
            </a: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 </a:t>
            </a: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行交流；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（</a:t>
            </a:r>
            <a:r>
              <a:rPr b="1" lang="zh-CN" sz="2300" spc="-1" strike="noStrike">
                <a:solidFill>
                  <a:srgbClr val="c00000"/>
                </a:solidFill>
                <a:latin typeface="Gill Sans MT"/>
              </a:rPr>
              <a:t>交流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第三单元：从不同的角度看同一事物</a:t>
            </a:r>
            <a:r>
              <a:rPr b="0" lang="en-US" sz="2300" spc="-1" strike="noStrike">
                <a:solidFill>
                  <a:srgbClr val="002060"/>
                </a:solidFill>
                <a:latin typeface="Gill Sans MT"/>
              </a:rPr>
              <a:t>……</a:t>
            </a: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谈谈自己选择这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2060"/>
                </a:solidFill>
                <a:latin typeface="Gill Sans MT"/>
              </a:rPr>
              <a:t>                  </a:t>
            </a: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些景物的想法；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（</a:t>
            </a:r>
            <a:r>
              <a:rPr b="1" lang="zh-CN" sz="2300" spc="-1" strike="noStrike">
                <a:solidFill>
                  <a:srgbClr val="c00000"/>
                </a:solidFill>
                <a:latin typeface="Gill Sans MT"/>
              </a:rPr>
              <a:t>评议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第七单元：表演课本剧</a:t>
            </a:r>
            <a:r>
              <a:rPr b="0" lang="en-US" sz="2300" spc="-1" strike="noStrike">
                <a:solidFill>
                  <a:srgbClr val="002060"/>
                </a:solidFill>
                <a:latin typeface="Gill Sans MT"/>
              </a:rPr>
              <a:t>《</a:t>
            </a: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晏子使楚</a:t>
            </a:r>
            <a:r>
              <a:rPr b="0" lang="en-US" sz="2300" spc="-1" strike="noStrike">
                <a:solidFill>
                  <a:srgbClr val="002060"/>
                </a:solidFill>
                <a:latin typeface="Gill Sans MT"/>
              </a:rPr>
              <a:t>》</a:t>
            </a: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或</a:t>
            </a:r>
            <a:r>
              <a:rPr b="0" lang="en-US" sz="2300" spc="-1" strike="noStrike">
                <a:solidFill>
                  <a:srgbClr val="002060"/>
                </a:solidFill>
                <a:latin typeface="Gill Sans MT"/>
              </a:rPr>
              <a:t>《</a:t>
            </a: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嗟来之食</a:t>
            </a:r>
            <a:r>
              <a:rPr b="0" lang="en-US" sz="2300" spc="-1" strike="noStrike">
                <a:solidFill>
                  <a:srgbClr val="002060"/>
                </a:solidFill>
                <a:latin typeface="Gill Sans MT"/>
              </a:rPr>
              <a:t>》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（</a:t>
            </a:r>
            <a:r>
              <a:rPr b="1" lang="zh-CN" sz="2300" spc="-1" strike="noStrike">
                <a:solidFill>
                  <a:srgbClr val="c00000"/>
                </a:solidFill>
                <a:latin typeface="Gill Sans MT"/>
              </a:rPr>
              <a:t>表演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第八单元：向同学介绍自己最想发明的灯的特点；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（</a:t>
            </a:r>
            <a:r>
              <a:rPr b="1" lang="zh-CN" sz="2300" spc="-1" strike="noStrike">
                <a:solidFill>
                  <a:srgbClr val="c00000"/>
                </a:solidFill>
                <a:latin typeface="Gill Sans MT"/>
              </a:rPr>
              <a:t>介绍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第九单元：谈谈我对所谓“特异功能”的看法。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（</a:t>
            </a:r>
            <a:r>
              <a:rPr b="1" lang="zh-CN" sz="2300" spc="-1" strike="noStrike">
                <a:solidFill>
                  <a:srgbClr val="c00000"/>
                </a:solidFill>
                <a:latin typeface="Gill Sans MT"/>
              </a:rPr>
              <a:t>评议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TextBox 3"/>
          <p:cNvSpPr/>
          <p:nvPr/>
        </p:nvSpPr>
        <p:spPr>
          <a:xfrm>
            <a:off x="1071720" y="5786280"/>
            <a:ext cx="671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70c0"/>
                </a:solidFill>
                <a:latin typeface="Cambria"/>
              </a:rPr>
              <a:t>认真倾听和有条理地表达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5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00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00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500"/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3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3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00"/>
                                        <p:tgtEl>
                                          <p:spTgt spid="3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500"/>
                                        <p:tgtEl>
                                          <p:spTgt spid="3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500"/>
                                        <p:tgtEl>
                                          <p:spTgt spid="3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00"/>
                                        <p:tgtEl>
                                          <p:spTgt spid="3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00"/>
                                        <p:tgtEl>
                                          <p:spTgt spid="3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500"/>
                                        <p:tgtEl>
                                          <p:spTgt spid="3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13920" y="785520"/>
            <a:ext cx="772956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72314"/>
                </a:solidFill>
                <a:latin typeface="Gill Sans MT"/>
              </a:rPr>
              <a:t>综合活动：</a:t>
            </a:r>
            <a:br>
              <a:rPr sz="3900"/>
            </a:b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434960" y="1447560"/>
            <a:ext cx="7709040" cy="39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2060"/>
                </a:solidFill>
                <a:latin typeface="Gill Sans MT"/>
              </a:rPr>
              <a:t>第二单元：举行读书会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2060"/>
                </a:solidFill>
                <a:latin typeface="Gill Sans MT"/>
              </a:rPr>
              <a:t>第六单元：开劳动恳谈会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2060"/>
                </a:solidFill>
                <a:latin typeface="Gill Sans MT"/>
              </a:rPr>
              <a:t>第十单元：我们去旅行和期末总结会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TextBox 3"/>
          <p:cNvSpPr/>
          <p:nvPr/>
        </p:nvSpPr>
        <p:spPr>
          <a:xfrm>
            <a:off x="2769480" y="421488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70c0"/>
                </a:solidFill>
                <a:latin typeface="Cambria"/>
              </a:rPr>
              <a:t>综合表达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1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7" dur="5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71720" y="642600"/>
            <a:ext cx="758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572314"/>
                </a:solidFill>
                <a:latin typeface="Gill Sans MT"/>
              </a:rPr>
              <a:t>五年级口语交际的关键知识点：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000080" y="2332080"/>
            <a:ext cx="7586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、学习倾听别人意见，调整自己的看法和发言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、学习有条理地表达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3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、初步学习在综合活动过程中文明地进行口语交际实践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五年级口语交际教学建议：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142640" y="1447560"/>
            <a:ext cx="7791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学生是在</a:t>
            </a: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语文实践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中进行口语交际的，是听与说双方的</a:t>
            </a: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互动过程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，教学活动主要应在</a:t>
            </a: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具体的交际情境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中进行，不宜采用大量讲授口语交际原则、要领的方式。应努力选择贴近生活的话题，采用灵活的形式组织教学。 在教学的全程中关注学生的口语交际活动，特别是要培养学生的对方意识，倾听别人的意见，根据对方的发言及态度调整自己的看法和发言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0" dur="20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71360" y="7855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7030a0"/>
                </a:solidFill>
                <a:latin typeface="Gill Sans MT"/>
              </a:rPr>
              <a:t>一、课程性质</a:t>
            </a:r>
            <a:br>
              <a:rPr sz="3900"/>
            </a:b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356840" y="2643120"/>
            <a:ext cx="7497720" cy="23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</a:rPr>
              <a:t>   </a:t>
            </a:r>
            <a:r>
              <a:rPr b="1" lang="zh-CN" sz="4000" spc="-1" strike="noStrike">
                <a:solidFill>
                  <a:srgbClr val="000000"/>
                </a:solidFill>
                <a:latin typeface="Gill Sans MT"/>
              </a:rPr>
              <a:t>       </a:t>
            </a:r>
            <a:r>
              <a:rPr b="1" lang="zh-CN" sz="4000" spc="-1" strike="noStrike">
                <a:solidFill>
                  <a:srgbClr val="002060"/>
                </a:solidFill>
                <a:latin typeface="Gill Sans MT"/>
              </a:rPr>
              <a:t>聚焦于“语言文字运用”， 努力体现语文课程的实践性和综合性。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五年级口语交际教学建议：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4" name="TextBox 3"/>
          <p:cNvSpPr/>
          <p:nvPr/>
        </p:nvSpPr>
        <p:spPr>
          <a:xfrm>
            <a:off x="1071720" y="1571760"/>
            <a:ext cx="80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mbria"/>
              </a:rPr>
              <a:t>1</a:t>
            </a:r>
            <a:r>
              <a:rPr b="1" lang="zh-CN" sz="3600" spc="-1" strike="noStrike">
                <a:solidFill>
                  <a:srgbClr val="002060"/>
                </a:solidFill>
                <a:latin typeface="Cambria"/>
              </a:rPr>
              <a:t>、结合语文课的各种课型培养学生的口语交际能力。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5" name="TextBox 5"/>
          <p:cNvSpPr/>
          <p:nvPr/>
        </p:nvSpPr>
        <p:spPr>
          <a:xfrm>
            <a:off x="1071720" y="2714760"/>
            <a:ext cx="8167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mbria"/>
              </a:rPr>
              <a:t>2</a:t>
            </a:r>
            <a:r>
              <a:rPr b="1" lang="zh-CN" sz="3600" spc="-1" strike="noStrike">
                <a:solidFill>
                  <a:srgbClr val="002060"/>
                </a:solidFill>
                <a:latin typeface="Cambria"/>
              </a:rPr>
              <a:t>、利用“畅所欲言”和“初显身手”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Cambria"/>
              </a:rPr>
              <a:t>板块，集中训练学生的口语交际能力。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学情分析：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1071360" y="1447560"/>
            <a:ext cx="7862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经过四年多的学习，五年级的学生已经具备一定的口语交际能力。大部分学生能较为自信地表达，且具有一定的倾听习惯，讲述也较为完整。但是大部分学生还不能有条理地表达自己的感受，在倾听别人的发言时，还不能准确、快速地抓住要点进行评议。当然，还是有部分学生的口语表达能力较差，平时的发言次数或机会太少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9" dur="20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五年级口语交际教学建议：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9" name="TextBox 3"/>
          <p:cNvSpPr/>
          <p:nvPr/>
        </p:nvSpPr>
        <p:spPr>
          <a:xfrm>
            <a:off x="1071720" y="1571760"/>
            <a:ext cx="80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mbria"/>
              </a:rPr>
              <a:t>1</a:t>
            </a:r>
            <a:r>
              <a:rPr b="1" lang="zh-CN" sz="3600" spc="-1" strike="noStrike">
                <a:solidFill>
                  <a:srgbClr val="002060"/>
                </a:solidFill>
                <a:latin typeface="Cambria"/>
              </a:rPr>
              <a:t>、结合语文课的各种课型培养学生的口语交际能力。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0" name="TextBox 5"/>
          <p:cNvSpPr/>
          <p:nvPr/>
        </p:nvSpPr>
        <p:spPr>
          <a:xfrm>
            <a:off x="1071720" y="2714760"/>
            <a:ext cx="8167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mbria"/>
              </a:rPr>
              <a:t>2</a:t>
            </a:r>
            <a:r>
              <a:rPr b="1" lang="zh-CN" sz="3600" spc="-1" strike="noStrike">
                <a:solidFill>
                  <a:srgbClr val="002060"/>
                </a:solidFill>
                <a:latin typeface="Cambria"/>
              </a:rPr>
              <a:t>、利用“畅所欲言”和“初显身手”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Cambria"/>
              </a:rPr>
              <a:t>板块，集中训练学生的口语交际能力。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1" name="TextBox 6"/>
          <p:cNvSpPr/>
          <p:nvPr/>
        </p:nvSpPr>
        <p:spPr>
          <a:xfrm>
            <a:off x="1071720" y="4143240"/>
            <a:ext cx="80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Cambria"/>
              </a:rPr>
              <a:t>学生主持→明确要求→小组讨论→全班交流→师生总结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71360" y="2138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r>
              <a:rPr b="0" lang="zh-CN" sz="3900" spc="-1" strike="noStrike">
                <a:solidFill>
                  <a:srgbClr val="572314"/>
                </a:solidFill>
                <a:latin typeface="Gill Sans MT"/>
              </a:rPr>
              <a:t>案例呈现：“龙”的故事会</a:t>
            </a:r>
            <a:br>
              <a:rPr sz="3900"/>
            </a:b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928800" y="1356840"/>
            <a:ext cx="8215200" cy="52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00000"/>
                </a:solidFill>
                <a:latin typeface="Gill Sans MT"/>
              </a:rPr>
              <a:t>教学内容：</a:t>
            </a:r>
            <a:br>
              <a:rPr sz="2700"/>
            </a:b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1" lang="zh-CN" sz="2700" spc="-1" strike="noStrike">
                <a:solidFill>
                  <a:srgbClr val="002060"/>
                </a:solidFill>
                <a:latin typeface="Gill Sans MT"/>
              </a:rPr>
              <a:t>交流与“龙”相关的故事、工艺品、特产、地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2060"/>
                </a:solidFill>
                <a:latin typeface="Gill Sans MT"/>
              </a:rPr>
              <a:t>名等。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00000"/>
                </a:solidFill>
                <a:latin typeface="Gill Sans MT"/>
              </a:rPr>
              <a:t>教学目标：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060"/>
                </a:solidFill>
                <a:latin typeface="Gill Sans MT"/>
              </a:rPr>
              <a:t>        </a:t>
            </a:r>
            <a:r>
              <a:rPr b="1" lang="en-US" sz="27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1" lang="zh-CN" sz="2700" spc="-1" strike="noStrike">
                <a:solidFill>
                  <a:srgbClr val="002060"/>
                </a:solidFill>
                <a:latin typeface="Gill Sans MT"/>
              </a:rPr>
              <a:t>、通过学生交流与“龙”相关的故事、工艺品、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2060"/>
                </a:solidFill>
                <a:latin typeface="Gill Sans MT"/>
              </a:rPr>
              <a:t>特产、地名等，体会龙的象征意义，激发学生作为龙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2060"/>
                </a:solidFill>
                <a:latin typeface="Gill Sans MT"/>
              </a:rPr>
              <a:t>的传人的民族自豪感。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060"/>
                </a:solidFill>
                <a:latin typeface="Gill Sans MT"/>
              </a:rPr>
              <a:t>        </a:t>
            </a:r>
            <a:r>
              <a:rPr b="1" lang="en-US" sz="27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1" lang="zh-CN" sz="2700" spc="-1" strike="noStrike">
                <a:solidFill>
                  <a:srgbClr val="002060"/>
                </a:solidFill>
                <a:latin typeface="Gill Sans MT"/>
              </a:rPr>
              <a:t>、继续培养学生认真倾听的习惯。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060"/>
                </a:solidFill>
                <a:latin typeface="Gill Sans MT"/>
              </a:rPr>
              <a:t>        </a:t>
            </a:r>
            <a:r>
              <a:rPr b="1" lang="en-US" sz="2700" spc="-1" strike="noStrike">
                <a:solidFill>
                  <a:srgbClr val="002060"/>
                </a:solidFill>
                <a:latin typeface="Gill Sans MT"/>
              </a:rPr>
              <a:t>3</a:t>
            </a:r>
            <a:r>
              <a:rPr b="1" lang="zh-CN" sz="2700" spc="-1" strike="noStrike">
                <a:solidFill>
                  <a:srgbClr val="002060"/>
                </a:solidFill>
                <a:latin typeface="Gill Sans MT"/>
              </a:rPr>
              <a:t>、通过学生的讲述与交流，培养学生有条理地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2060"/>
                </a:solidFill>
                <a:latin typeface="Gill Sans MT"/>
              </a:rPr>
              <a:t>进行口语表达的能力。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00000"/>
                </a:solidFill>
                <a:latin typeface="Gill Sans MT"/>
              </a:rPr>
              <a:t>教学重难点：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2060"/>
                </a:solidFill>
                <a:latin typeface="Gill Sans MT"/>
              </a:rPr>
              <a:t>       </a:t>
            </a:r>
            <a:r>
              <a:rPr b="1" lang="zh-CN" sz="2700" spc="-1" strike="noStrike">
                <a:solidFill>
                  <a:srgbClr val="002060"/>
                </a:solidFill>
                <a:latin typeface="Gill Sans MT"/>
              </a:rPr>
              <a:t>通过学生的讲述与交流，培养学生有条理地进行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2060"/>
                </a:solidFill>
                <a:latin typeface="Gill Sans MT"/>
              </a:rPr>
              <a:t>口语表达的能力。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3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c00000"/>
                </a:solidFill>
                <a:latin typeface="Gill Sans MT"/>
              </a:rPr>
              <a:t>教学过程：</a:t>
            </a:r>
            <a:br>
              <a:rPr sz="3900"/>
            </a:br>
            <a:r>
              <a:rPr b="0" lang="zh-CN" sz="3900" spc="-1" strike="noStrike">
                <a:solidFill>
                  <a:srgbClr val="572314"/>
                </a:solidFill>
                <a:latin typeface="Gill Sans MT"/>
              </a:rPr>
              <a:t>一、导入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1214280" y="1428480"/>
            <a:ext cx="7498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c00000"/>
                </a:solidFill>
                <a:latin typeface="Gill Sans MT"/>
              </a:rPr>
              <a:t>主持人开场白：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r>
              <a:rPr b="0" lang="zh-CN" sz="3000" spc="-1" strike="noStrike">
                <a:solidFill>
                  <a:srgbClr val="002060"/>
                </a:solidFill>
                <a:latin typeface="Gill Sans MT"/>
              </a:rPr>
              <a:t>同学们，龙是威力无比、变幻万千、无所不能的。它上能腾云驾雾，显露云端；下能呼风唤雨，潜入深渊。龙是至高无上权利的象征，又是祥和幸福，欢腾自由的体现。龙更是我们中国人对自由完美的向往和追求。我们作为龙的传人，有必要去了解有关龙的故事和文化。下面，我宣布“龙”的故事会现在开始。首先有请邓老师为本次活动提要求。掌声欢迎。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572314"/>
                </a:solidFill>
                <a:latin typeface="Gill Sans MT"/>
              </a:rPr>
              <a:t>二、明确要求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0" lang="zh-CN" sz="3000" spc="-1" strike="noStrike">
                <a:solidFill>
                  <a:srgbClr val="002060"/>
                </a:solidFill>
                <a:latin typeface="Gill Sans MT"/>
              </a:rPr>
              <a:t>、小组交流完毕以后，要对发言人的讲述做重点指导，让他讲述的故事变得更加具体生动。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0" lang="zh-CN" sz="3000" spc="-1" strike="noStrike">
                <a:solidFill>
                  <a:srgbClr val="002060"/>
                </a:solidFill>
                <a:latin typeface="Gill Sans MT"/>
              </a:rPr>
              <a:t>、在全班交流时，讲述人一定要做到声音洪亮，自然大方，并且可以适当添加一些肢体语言让讲述更生动。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Gill Sans MT"/>
              </a:rPr>
              <a:t>3</a:t>
            </a:r>
            <a:r>
              <a:rPr b="0" lang="zh-CN" sz="3000" spc="-1" strike="noStrike">
                <a:solidFill>
                  <a:srgbClr val="002060"/>
                </a:solidFill>
                <a:latin typeface="Gill Sans MT"/>
              </a:rPr>
              <a:t>、发言人在讲述时要注意有条理地表达。（讲述故事时，要讲清楚故事的起因、经过、结果；介绍工艺品或特产地名时，要按照一定的顺序等）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Gill Sans MT"/>
              </a:rPr>
              <a:t>4</a:t>
            </a:r>
            <a:r>
              <a:rPr b="0" lang="zh-CN" sz="3000" spc="-1" strike="noStrike">
                <a:solidFill>
                  <a:srgbClr val="002060"/>
                </a:solidFill>
                <a:latin typeface="Gill Sans MT"/>
              </a:rPr>
              <a:t>、同学们在听讲述时一定要做到认真倾听，并积极参与互动。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791480" cy="29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7030a0"/>
                </a:solidFill>
                <a:latin typeface="Gill Sans MT"/>
              </a:rPr>
              <a:t>三、小组讨论交流，做准备。</a:t>
            </a:r>
            <a:br>
              <a:rPr sz="3900"/>
            </a:br>
            <a:r>
              <a:rPr b="0" lang="zh-CN" sz="3900" spc="-1" strike="noStrike">
                <a:solidFill>
                  <a:srgbClr val="572314"/>
                </a:solidFill>
                <a:latin typeface="Gill Sans MT"/>
              </a:rPr>
              <a:t>        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      </a:t>
            </a:r>
            <a:r>
              <a:rPr b="0" lang="zh-CN" sz="3000" spc="-1" strike="noStrike">
                <a:solidFill>
                  <a:srgbClr val="002060"/>
                </a:solidFill>
                <a:latin typeface="Gill Sans MT"/>
              </a:rPr>
              <a:t>根据实际交流情况推选出小组重点发言人，并帮助发言人做好全班交流的准备。</a:t>
            </a:r>
            <a:br>
              <a:rPr sz="3900"/>
            </a:br>
            <a:endParaRPr b="0" lang="en-US" sz="3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1000080" y="3000240"/>
            <a:ext cx="768672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2060"/>
                </a:solidFill>
                <a:latin typeface="Gill Sans MT"/>
              </a:rPr>
              <a:t>    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7030a0"/>
                </a:solidFill>
                <a:latin typeface="华文中宋"/>
              </a:rPr>
              <a:t>四、全班交流</a:t>
            </a:r>
            <a:endParaRPr b="0" lang="en-US" sz="41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2060"/>
                </a:solidFill>
                <a:latin typeface="Gill Sans MT"/>
              </a:rPr>
              <a:t>          </a:t>
            </a:r>
            <a:r>
              <a:rPr b="1" lang="zh-CN" sz="3000" spc="-1" strike="noStrike">
                <a:solidFill>
                  <a:srgbClr val="002060"/>
                </a:solidFill>
                <a:latin typeface="Gill Sans MT"/>
              </a:rPr>
              <a:t>各小组发言人做全班交流，同学对讲述做评价，对不同的评价意见，主持人还可以引导辩论。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572314"/>
                </a:solidFill>
                <a:latin typeface="Gill Sans MT"/>
              </a:rPr>
              <a:t>五、师生总结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1" lang="zh-CN" sz="2700" spc="-1" strike="noStrike">
                <a:solidFill>
                  <a:srgbClr val="002060"/>
                </a:solidFill>
                <a:latin typeface="Gill Sans MT"/>
              </a:rPr>
              <a:t>、主持人总结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2060"/>
                </a:solidFill>
                <a:latin typeface="Gill Sans MT"/>
              </a:rPr>
              <a:t>          </a:t>
            </a:r>
            <a:r>
              <a:rPr b="0" lang="zh-CN" sz="2700" spc="-1" strike="noStrike">
                <a:solidFill>
                  <a:srgbClr val="002060"/>
                </a:solidFill>
                <a:latin typeface="Gill Sans MT"/>
              </a:rPr>
              <a:t>同学们，我们作为龙的传人，必将秉承龙的精神，去搏击万里长空，去迎接旭日东升。相信通过我们的努力，将来一定能展示出我们中国龙的风采。齐唱</a:t>
            </a:r>
            <a:r>
              <a:rPr b="0" lang="en-US" sz="2700" spc="-1" strike="noStrike">
                <a:solidFill>
                  <a:srgbClr val="002060"/>
                </a:solidFill>
                <a:latin typeface="Gill Sans MT"/>
              </a:rPr>
              <a:t>《</a:t>
            </a:r>
            <a:r>
              <a:rPr b="0" lang="zh-CN" sz="2700" spc="-1" strike="noStrike">
                <a:solidFill>
                  <a:srgbClr val="002060"/>
                </a:solidFill>
                <a:latin typeface="Gill Sans MT"/>
              </a:rPr>
              <a:t>龙的传人</a:t>
            </a:r>
            <a:r>
              <a:rPr b="0" lang="en-US" sz="2700" spc="-1" strike="noStrike">
                <a:solidFill>
                  <a:srgbClr val="002060"/>
                </a:solidFill>
                <a:latin typeface="Gill Sans MT"/>
              </a:rPr>
              <a:t>》</a:t>
            </a:r>
            <a:r>
              <a:rPr b="0" lang="zh-CN" sz="2700" spc="-1" strike="noStrike">
                <a:solidFill>
                  <a:srgbClr val="002060"/>
                </a:solidFill>
                <a:latin typeface="Gill Sans MT"/>
              </a:rPr>
              <a:t>。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1" lang="zh-CN" sz="2700" spc="-1" strike="noStrike">
                <a:solidFill>
                  <a:srgbClr val="002060"/>
                </a:solidFill>
                <a:latin typeface="Gill Sans MT"/>
              </a:rPr>
              <a:t>、老师总结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2060"/>
                </a:solidFill>
                <a:latin typeface="Gill Sans MT"/>
              </a:rPr>
              <a:t>          </a:t>
            </a:r>
            <a:r>
              <a:rPr b="0" lang="zh-CN" sz="2700" spc="-1" strike="noStrike">
                <a:solidFill>
                  <a:srgbClr val="002060"/>
                </a:solidFill>
                <a:latin typeface="Gill Sans MT"/>
              </a:rPr>
              <a:t>同学们今天的故事会开得很成功，讲述都很精彩。大部分同学都很认真地倾听，参与互动也很积极。讲述的同学如果在讲述的过程中强调一些表示顺序的词语，语言再生动一些，配合自己的表情和肢体语言，相信你们的讲述会更精彩。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0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3" dur="5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6" dur="5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9" dur="500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五年级口语交际教学建议：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、结合语文课的各种课型培养学生的口语交际能力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、利用“畅所欲言”和“初显身手”板块，集中训练学生的口语交际能力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00000"/>
                </a:solidFill>
                <a:latin typeface="Gill Sans MT"/>
              </a:rPr>
              <a:t>学生主持→明确要求→小组讨论→全班交流→师生总结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4" name="TextBox 3"/>
          <p:cNvSpPr/>
          <p:nvPr/>
        </p:nvSpPr>
        <p:spPr>
          <a:xfrm>
            <a:off x="1500120" y="4786200"/>
            <a:ext cx="74296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0" lang="en-US" sz="3200" spc="-1" strike="noStrike">
                <a:solidFill>
                  <a:srgbClr val="002060"/>
                </a:solidFill>
                <a:latin typeface="华文中宋"/>
                <a:ea typeface="华文中宋"/>
              </a:rPr>
              <a:t>3</a:t>
            </a:r>
            <a:r>
              <a:rPr b="0" lang="zh-CN" sz="3200" spc="-1" strike="noStrike">
                <a:solidFill>
                  <a:srgbClr val="002060"/>
                </a:solidFill>
                <a:latin typeface="华文中宋"/>
                <a:ea typeface="华文中宋"/>
              </a:rPr>
              <a:t>、利用综合活动，初步培养学生的综合表达能力。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6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572314"/>
                </a:solidFill>
                <a:latin typeface="Gill Sans MT"/>
              </a:rPr>
              <a:t>“</a:t>
            </a:r>
            <a:r>
              <a:rPr b="0" lang="zh-CN" sz="3900" spc="-1" strike="noStrike">
                <a:solidFill>
                  <a:srgbClr val="572314"/>
                </a:solidFill>
                <a:latin typeface="Gill Sans MT"/>
              </a:rPr>
              <a:t>三环节两时段两总结”的语文综合活动课堂表达模式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999720" y="1885680"/>
            <a:ext cx="771516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所谓</a:t>
            </a: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三环节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是指：</a:t>
            </a: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、合作分工，制定计划；</a:t>
            </a: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、调查实践，资料搜集；</a:t>
            </a: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3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、课堂汇报，评价提升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两时段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是指学生课内表达和课外表达相结合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两总结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是指学生自我总结和教师总结相结合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3" dur="5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8" dur="50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3" dur="500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28480" y="42840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7030a0"/>
                </a:solidFill>
                <a:latin typeface="Gill Sans MT"/>
              </a:rPr>
              <a:t>二、课程基本理念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28480" y="205704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1.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语文教育的目的是“全面提高学生的语文素养”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2.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前提是“正确把握语文教育的特点”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3.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策略是“积极倡导自主、合作、探究的学习方式”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4.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保障是“努力建设开放而有活力的语文课程”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572314"/>
                </a:solidFill>
                <a:latin typeface="Gill Sans MT"/>
              </a:rPr>
              <a:t>一、合作分工，制定计划。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、小组根据主题，共同确定计划。</a:t>
            </a: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（口语交际要点：讨论问题、总结归纳。）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、小组根据组员情况对计划任务进行分工。</a:t>
            </a: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（口语交际要点：主动申请、共同协商。）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3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、小组梳理实施计划任务时要注意的一些问题。</a:t>
            </a: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（口语交际要点：梳理问题、补充问题）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572314"/>
                </a:solidFill>
                <a:latin typeface="Gill Sans MT"/>
              </a:rPr>
              <a:t>二、调查实践，资料搜集。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、小组按计划分工进行实践调查，资料搜集。</a:t>
            </a: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（口语交际要点：有礼貌地与他人交流、提问题的准确性）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、小组汇总，资料梳理。</a:t>
            </a: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（口语交际要点：表达的准确性和条理性，总结表达）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0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5" dur="5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428480" y="49968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572314"/>
                </a:solidFill>
                <a:latin typeface="Gill Sans MT"/>
              </a:rPr>
              <a:t>三、课堂汇报，评价提升。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1356840" y="205704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、小组交流汇报。</a:t>
            </a: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（口语交际要点：规范汇报方式和汇报语言）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、生生评价互动。</a:t>
            </a: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（口语交际要点：训练学生评价语言的规范性）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2" dur="20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7" dur="20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99720" y="3567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两总结：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1000080" y="1714320"/>
            <a:ext cx="8143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Gill Sans MT"/>
              </a:rPr>
              <a:t>        </a:t>
            </a:r>
            <a:r>
              <a:rPr b="1" lang="zh-CN" sz="3600" spc="-1" strike="noStrike">
                <a:solidFill>
                  <a:srgbClr val="002060"/>
                </a:solidFill>
                <a:latin typeface="Gill Sans MT"/>
              </a:rPr>
              <a:t>学生自我总结和教师总结相结合。   </a:t>
            </a:r>
            <a:r>
              <a:rPr b="1" lang="zh-CN" sz="3600" spc="-1" strike="noStrike">
                <a:solidFill>
                  <a:srgbClr val="c00000"/>
                </a:solidFill>
                <a:latin typeface="Gill Sans MT"/>
              </a:rPr>
              <a:t>（口语交际要点：学生和教师总结活动过程中表达方面的优点和不足之处）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4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1428840" y="1213920"/>
            <a:ext cx="82152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2200" spc="-1" strike="noStrike">
                <a:solidFill>
                  <a:srgbClr val="0070c0"/>
                </a:solidFill>
                <a:latin typeface="Gill Sans MT"/>
              </a:rPr>
              <a:t>谢谢！</a:t>
            </a:r>
            <a:endParaRPr b="0" lang="en-US" sz="2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80" dur="2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85560" y="7855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7030a0"/>
                </a:solidFill>
                <a:latin typeface="Gill Sans MT"/>
              </a:rPr>
              <a:t>三、课程设计思路</a:t>
            </a:r>
            <a:br>
              <a:rPr sz="5400"/>
            </a:b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28480" y="2428560"/>
            <a:ext cx="749772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Gill Sans MT"/>
              </a:rPr>
              <a:t>四个学段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Gill Sans MT"/>
              </a:rPr>
              <a:t>五个板块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Gill Sans MT"/>
              </a:rPr>
              <a:t>四个建议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571480" y="2356920"/>
            <a:ext cx="60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0000"/>
                </a:solidFill>
                <a:latin typeface="华文琥珀"/>
                <a:ea typeface="华文琥珀"/>
              </a:rPr>
              <a:t>识字与写字解读</a:t>
            </a:r>
            <a:endParaRPr b="0" lang="en-US" sz="60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7030a0"/>
                </a:solidFill>
                <a:latin typeface="Gill Sans MT"/>
              </a:rPr>
              <a:t>   </a:t>
            </a:r>
            <a:r>
              <a:rPr b="1" lang="zh-CN" sz="4300" spc="-1" strike="noStrike">
                <a:solidFill>
                  <a:srgbClr val="7030a0"/>
                </a:solidFill>
                <a:latin typeface="Gill Sans MT"/>
              </a:rPr>
              <a:t>第一学段（一、二年级）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928800" y="1250640"/>
            <a:ext cx="8215200" cy="56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0" lang="zh-CN" sz="2800" spc="-1" strike="noStrike">
                <a:solidFill>
                  <a:srgbClr val="002060"/>
                </a:solidFill>
                <a:latin typeface="Gill Sans MT"/>
              </a:rPr>
              <a:t>．喜欢学习汉字，有主动识字的愿望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0" lang="zh-CN" sz="2800" spc="-1" strike="noStrike">
                <a:solidFill>
                  <a:srgbClr val="002060"/>
                </a:solidFill>
                <a:latin typeface="Gill Sans MT"/>
              </a:rPr>
              <a:t>．认识常用汉字</a:t>
            </a:r>
            <a:r>
              <a:rPr b="0" lang="en-US" sz="2800" spc="-1" strike="noStrike">
                <a:solidFill>
                  <a:srgbClr val="002060"/>
                </a:solidFill>
                <a:latin typeface="Gill Sans MT"/>
              </a:rPr>
              <a:t>1600</a:t>
            </a:r>
            <a:r>
              <a:rPr b="0" lang="zh-CN" sz="2800" spc="-1" strike="noStrike">
                <a:solidFill>
                  <a:srgbClr val="002060"/>
                </a:solidFill>
                <a:latin typeface="Gill Sans MT"/>
              </a:rPr>
              <a:t>个左右，其中</a:t>
            </a:r>
            <a:r>
              <a:rPr b="0" lang="en-US" sz="2800" spc="-1" strike="noStrike">
                <a:solidFill>
                  <a:srgbClr val="002060"/>
                </a:solidFill>
                <a:latin typeface="Gill Sans MT"/>
              </a:rPr>
              <a:t>800</a:t>
            </a:r>
            <a:r>
              <a:rPr b="0" lang="zh-CN" sz="2800" spc="-1" strike="noStrike">
                <a:solidFill>
                  <a:srgbClr val="002060"/>
                </a:solidFill>
                <a:latin typeface="Gill Sans MT"/>
              </a:rPr>
              <a:t>个左右会写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ill Sans MT"/>
              </a:rPr>
              <a:t>3</a:t>
            </a:r>
            <a:r>
              <a:rPr b="0" lang="zh-CN" sz="2800" spc="-1" strike="noStrike">
                <a:solidFill>
                  <a:srgbClr val="002060"/>
                </a:solidFill>
                <a:latin typeface="Gill Sans MT"/>
              </a:rPr>
              <a:t>．掌握汉字的基本笔画和常用的偏旁部首，能按笔顺规则用硬笔写字，注意间架结构。初步感受汉字的形体美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ill Sans MT"/>
              </a:rPr>
              <a:t>4</a:t>
            </a:r>
            <a:r>
              <a:rPr b="0" lang="zh-CN" sz="2800" spc="-1" strike="noStrike">
                <a:solidFill>
                  <a:srgbClr val="002060"/>
                </a:solidFill>
                <a:latin typeface="Gill Sans MT"/>
              </a:rPr>
              <a:t>．养成正确的书写姿势和良好的书写习惯，书写规范、端正、整洁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ill Sans MT"/>
              </a:rPr>
              <a:t>5</a:t>
            </a:r>
            <a:r>
              <a:rPr b="0" lang="zh-CN" sz="2800" spc="-1" strike="noStrike">
                <a:solidFill>
                  <a:srgbClr val="002060"/>
                </a:solidFill>
                <a:latin typeface="Gill Sans MT"/>
              </a:rPr>
              <a:t>．学会汉语拼音。能读准声母、韵母、声调和整体认读音节。能准确地拼读音节，正确书写声母、韵母和音节。认识大写字母，熟记</a:t>
            </a:r>
            <a:r>
              <a:rPr b="0" lang="en-US" sz="2800" spc="-1" strike="noStrike">
                <a:solidFill>
                  <a:srgbClr val="002060"/>
                </a:solidFill>
                <a:latin typeface="Gill Sans MT"/>
              </a:rPr>
              <a:t>《</a:t>
            </a:r>
            <a:r>
              <a:rPr b="0" lang="zh-CN" sz="2800" spc="-1" strike="noStrike">
                <a:solidFill>
                  <a:srgbClr val="002060"/>
                </a:solidFill>
                <a:latin typeface="Gill Sans MT"/>
              </a:rPr>
              <a:t>汉语拼音字母表</a:t>
            </a:r>
            <a:r>
              <a:rPr b="0" lang="en-US" sz="2800" spc="-1" strike="noStrike">
                <a:solidFill>
                  <a:srgbClr val="002060"/>
                </a:solidFill>
                <a:latin typeface="Gill Sans MT"/>
              </a:rPr>
              <a:t>》</a:t>
            </a:r>
            <a:r>
              <a:rPr b="0" lang="zh-CN" sz="2800" spc="-1" strike="noStrike">
                <a:solidFill>
                  <a:srgbClr val="002060"/>
                </a:solidFill>
                <a:latin typeface="Gill Sans MT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ill Sans MT"/>
              </a:rPr>
              <a:t>6</a:t>
            </a:r>
            <a:r>
              <a:rPr b="0" lang="zh-CN" sz="2800" spc="-1" strike="noStrike">
                <a:solidFill>
                  <a:srgbClr val="002060"/>
                </a:solidFill>
                <a:latin typeface="Gill Sans MT"/>
              </a:rPr>
              <a:t>．能借助汉语拼音认读汉字。能用音序和部首检字法查字典，学习独立识字。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854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7030a0"/>
                </a:solidFill>
                <a:latin typeface="Gill Sans MT"/>
              </a:rPr>
              <a:t>第二学段（三、四年级）：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928800" y="1428480"/>
            <a:ext cx="8215200" cy="52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．对学习汉字有浓厚的兴趣，养成主动识字的习惯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．累计认识常用汉字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2500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个左右，其中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1800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个左右会写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3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．会使用字典、词典，有初步的独立识字能力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4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．能使用硬笔熟练地书写正楷字，做到规范、端正、整洁。用毛笔临摹正楷字帖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5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．有条件的地方，可学习使用键盘输入汉字。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9T12:33:01Z</dcterms:created>
  <dc:creator>Administrator</dc:creator>
  <dc:description/>
  <cp:keywords/>
  <dc:language>en-US</dc:language>
  <cp:lastModifiedBy>china</cp:lastModifiedBy>
  <dcterms:modified xsi:type="dcterms:W3CDTF">2016-03-13T12:58:48Z</dcterms:modified>
  <cp:revision>116</cp:revision>
  <dc:subject/>
  <dc:title>小学语文课标暨教材解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7</vt:lpwstr>
  </property>
</Properties>
</file>